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CB03-42E6-431D-8348-5CA629454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F95D-65AA-44AC-AE33-C94E79CFE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DE93-2EF1-4FF6-B647-5EF1D2761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E45E-B549-4EE0-8579-27E9C91AE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154A-5007-4F68-94D2-3043EF69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232F-8DD9-40A8-BE24-42F2ABA85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36F2-D1C6-4094-8345-A7BE6D768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02FC-04D6-42AA-8076-620DE2B59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56C2-CF67-46D6-BF33-61877C033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FDE7-55FC-4D9B-BE34-EB0FDA222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FCFD-D6DF-4D58-977D-9C521AB56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D36F-3547-4691-B6B7-1CAB6C919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BF50-097C-4529-8A48-6E88768B7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B978-9FB6-404E-A5AD-7997C08B2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9879-50C4-4121-A88E-84928E1BF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8E54-272A-460A-86E2-1C9C647AF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1550-2785-4CD3-BB79-6EBFA1DB1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C4D2-E4F7-49CF-9116-5EFA5A21DBF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maha.mt.cs.cmu.edu/90-723/PowerPoint/Main_04_Lists.ppt" TargetMode="External"/><Relationship Id="rId2" Type="http://schemas.openxmlformats.org/officeDocument/2006/relationships/hyperlink" Target="http://omaha.mt.cs.cmu.edu/90-723/PowerPoint/Main_04_Lists.ppt" TargetMode="External"/><Relationship Id="rId3" Type="http://schemas.openxmlformats.org/officeDocument/2006/relationships/hyperlink" Target="http://omaha.mt.cs.cmu.edu/90-723/PowerPoint/Main_04_Lists.ppt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5C6D-78C9-4DF6-BB2B-0C662F2A425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cture 4: Linked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33BA-40E0-43D1-B634-DC68E6CAC0D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rations on an IntNo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L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263240" y="2616120"/>
            <a:ext cx="50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the data at this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77200" y="4952880"/>
            <a:ext cx="67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the reference to the next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this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447920" y="19810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371600" y="190512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295280" y="198108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698120" y="1980360"/>
            <a:ext cx="5287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int setData(int newda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600920" y="4114080"/>
            <a:ext cx="622944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void setLink(IntNode newlin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DA60-DB52-4656-8D13-C453DE0B5DC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3: Appl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specification, write small applications to illustrate the use of the data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the specific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ior to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959-722F-43E2-8A63-427CC9633DF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ome Basic List Opera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Slides from Main</a:t>
            </a:r>
            <a:r>
              <a:rPr b="0" lang="ja-JP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s l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887-35F0-4A17-B8F7-7822C6B3999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ublic vs. Private Data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write simple, shor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thods?  Why not just allow access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te data allow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representation invarian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be pre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interface to be implementation indepen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447280" y="2742480"/>
            <a:ext cx="3595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data  node.l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6691-A84E-4862-B49B-C3D0AC7A3C3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arbage Collec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happens to a node after it is removed from a lis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cannot be accessed, it is recycled by the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garbage collec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the Java runtim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rbage collection is a huge programming conven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s code more rob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may pay in runtime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9EE1-0479-4326-B733-05C326861C5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uting a List</a:t>
            </a:r>
            <a:r>
              <a:rPr b="0" lang="ja-JP" sz="4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Leng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s the number of nodes in a list with given h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uld work even for the empty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wor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single method, for all instances of the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237680" y="2435760"/>
            <a:ext cx="600840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static int listLength(IntNode he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BF5D-1D26-40AC-8FDA-BFDC1A3035D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uting a List</a:t>
            </a:r>
            <a:r>
              <a:rPr b="0" lang="ja-JP" sz="4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Leng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36640" y="1979640"/>
            <a:ext cx="7332840" cy="344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static int listLength(IntNode he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Node curr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le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(current=head; current != null; current = current.link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n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 l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385A-CAB3-4A0D-AFAC-29EA7647ED4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istLength(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eed a pre-condi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recursiv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istLength(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method that reverses a list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method should retu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list contains a cycle, and should retu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therwise.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81800" y="3808800"/>
            <a:ext cx="680400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static bool containsCycle(IntNode he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C605-F101-4FB3-861E-E87F3E8D71A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Linked Lis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ked lists are one of the most basic and widely used data stru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remely useful in many applica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ar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Games and search algorith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BE1A-25AB-428F-A5D4-C5D65E24501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Linked Lis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used as building blocks for implementing other ADT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t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a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Tables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D4E-D8F8-4506-8208-D0282A832CD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ve Steps per Datatyp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 it Abstrac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p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, Design, Imp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ze the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A9F4-5F75-4472-825A-AC45D68ABF3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1: Understand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sp the datatype at the level of concepts and pict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up 41"/>
          <p:cNvGrpSpPr/>
          <p:nvPr/>
        </p:nvGrpSpPr>
        <p:grpSpPr>
          <a:xfrm>
            <a:off x="1523880" y="3276720"/>
            <a:ext cx="1143000" cy="761760"/>
            <a:chOff x="1523880" y="3276720"/>
            <a:chExt cx="1143000" cy="761760"/>
          </a:xfrm>
        </p:grpSpPr>
        <p:sp>
          <p:nvSpPr>
            <p:cNvPr id="72" name="Rectangle 5"/>
            <p:cNvSpPr/>
            <p:nvPr/>
          </p:nvSpPr>
          <p:spPr>
            <a:xfrm>
              <a:off x="1523880" y="3276720"/>
              <a:ext cx="11430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1523880" y="3276720"/>
              <a:ext cx="381240" cy="76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5486400" y="3505320"/>
            <a:ext cx="1143000" cy="761760"/>
            <a:chOff x="5486400" y="3505320"/>
            <a:chExt cx="1143000" cy="761760"/>
          </a:xfrm>
        </p:grpSpPr>
        <p:sp>
          <p:nvSpPr>
            <p:cNvPr id="75" name="Rectangle 16"/>
            <p:cNvSpPr/>
            <p:nvPr/>
          </p:nvSpPr>
          <p:spPr>
            <a:xfrm>
              <a:off x="5486400" y="3505320"/>
              <a:ext cx="11430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ectangle 17"/>
            <p:cNvSpPr/>
            <p:nvPr/>
          </p:nvSpPr>
          <p:spPr>
            <a:xfrm>
              <a:off x="5486400" y="3505320"/>
              <a:ext cx="381240" cy="76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" name="Line 32"/>
          <p:cNvSpPr/>
          <p:nvPr/>
        </p:nvSpPr>
        <p:spPr>
          <a:xfrm flipV="1">
            <a:off x="4876920" y="426708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" name="Group 12"/>
          <p:cNvGrpSpPr/>
          <p:nvPr/>
        </p:nvGrpSpPr>
        <p:grpSpPr>
          <a:xfrm>
            <a:off x="3657600" y="4800600"/>
            <a:ext cx="1143000" cy="761760"/>
            <a:chOff x="3657600" y="4800600"/>
            <a:chExt cx="1143000" cy="761760"/>
          </a:xfrm>
        </p:grpSpPr>
        <p:sp>
          <p:nvSpPr>
            <p:cNvPr id="79" name="Rectangle 13"/>
            <p:cNvSpPr/>
            <p:nvPr/>
          </p:nvSpPr>
          <p:spPr>
            <a:xfrm>
              <a:off x="3657600" y="4800600"/>
              <a:ext cx="11430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Rectangle 14"/>
            <p:cNvSpPr/>
            <p:nvPr/>
          </p:nvSpPr>
          <p:spPr>
            <a:xfrm>
              <a:off x="3657600" y="4800600"/>
              <a:ext cx="381240" cy="76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" name="Line 36"/>
          <p:cNvSpPr/>
          <p:nvPr/>
        </p:nvSpPr>
        <p:spPr>
          <a:xfrm>
            <a:off x="2590920" y="4191120"/>
            <a:ext cx="9144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" name="Group 18"/>
          <p:cNvGrpSpPr/>
          <p:nvPr/>
        </p:nvGrpSpPr>
        <p:grpSpPr>
          <a:xfrm>
            <a:off x="6858000" y="4952880"/>
            <a:ext cx="1143000" cy="761760"/>
            <a:chOff x="6858000" y="4952880"/>
            <a:chExt cx="1143000" cy="761760"/>
          </a:xfrm>
        </p:grpSpPr>
        <p:sp>
          <p:nvSpPr>
            <p:cNvPr id="83" name="Rectangle 19"/>
            <p:cNvSpPr/>
            <p:nvPr/>
          </p:nvSpPr>
          <p:spPr>
            <a:xfrm>
              <a:off x="6858000" y="4952880"/>
              <a:ext cx="11430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6858000" y="4952880"/>
              <a:ext cx="381240" cy="76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" name="Line 37"/>
          <p:cNvSpPr/>
          <p:nvPr/>
        </p:nvSpPr>
        <p:spPr>
          <a:xfrm>
            <a:off x="6629400" y="434340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BF08-924D-426E-BAF2-EDB66D2747D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2: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specification for a Java class that could implement the data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dings for constructor, public methods, public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precondition / postcondition for each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of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7572-0691-4AD6-AA32-FC5075F0878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2: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219320" y="3505320"/>
            <a:ext cx="7162560" cy="22096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class Int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int data;            // data stored 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IntNode link;    // reference to n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676520" y="1523880"/>
            <a:ext cx="580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l describe the specification and implementation of a list of intege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1F04-4D32-4210-9F47-24F706DF5F9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2: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ructor for Int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049"/>
          <p:cNvSpPr/>
          <p:nvPr/>
        </p:nvSpPr>
        <p:spPr>
          <a:xfrm>
            <a:off x="1440360" y="2970720"/>
            <a:ext cx="60314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IntNode(int initialData, IntNode initialLin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050"/>
          <p:cNvSpPr/>
          <p:nvPr/>
        </p:nvSpPr>
        <p:spPr>
          <a:xfrm>
            <a:off x="1322280" y="3657240"/>
            <a:ext cx="619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ize a node with a spec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data and link to the next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FA21-B775-4EE6-A473-D3521769301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rations on an IntNo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L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70800" y="2616120"/>
            <a:ext cx="55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s the data from this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198440" y="4952880"/>
            <a:ext cx="68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eference to the node after this node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the null refer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447920" y="19810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371600" y="190512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1295280" y="198108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682280" y="1986840"/>
            <a:ext cx="33598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int getData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1688400" y="4196520"/>
            <a:ext cx="41904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IntNode getLink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hael McCarthy</cp:lastModifiedBy>
  <cp:lastPrinted>1999-05-23T20:28:14Z</cp:lastPrinted>
  <dcterms:modified xsi:type="dcterms:W3CDTF">2014-01-22T14:07:13Z</dcterms:modified>
  <cp:revision>18</cp:revision>
  <dc:subject/>
  <dc:title>No Slide Title</dc:title>
</cp:coreProperties>
</file>