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617-1ADA-4624-ACFF-1D1CAA9CC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BDF-9543-4AF9-A5AD-F50532F4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2A3-966F-4D55-A98B-953BFDD9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01F-9944-4E89-9457-EB776BB5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368B-1916-404F-A580-6BDDEF20E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1A9B-B670-4D22-B786-9E8C9792A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E81F-792F-4FAB-B126-908DBF104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A13F-DACF-4C68-AA0D-30330CE26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74D9-4DD8-4B0F-ACD5-EBEA06B24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C9D8-1C63-4C94-B4EB-EFC843F75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41BA-EDE9-4F10-B6F0-DBBB67005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BA7E-72ED-4585-87EA-1EDBD8B5A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6642-7B2C-4580-A47C-033D00E70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0736-48A2-44D0-9AFA-C63520272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4074-6D69-4DDA-8D01-2A76DC9E0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2342-2DD9-43B1-AEFA-AEEEDBBE9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18FD-265E-44EE-AF2A-D0DF47F82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4C7-E868-43D8-9F64-7588E7C41C9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C:\Downloads\logo.gif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maha.mt.cs.cmu.edu/90-723/PowerPoint/Main_04_Lists.ppt" TargetMode="External"/><Relationship Id="rId2" Type="http://schemas.openxmlformats.org/officeDocument/2006/relationships/hyperlink" Target="http://omaha.mt.cs.cmu.edu/90-723/PowerPoint/Main_04_Lists.ppt" TargetMode="External"/><Relationship Id="rId3" Type="http://schemas.openxmlformats.org/officeDocument/2006/relationships/hyperlink" Target="http://omaha.mt.cs.cmu.edu/90-723/PowerPoint/Main_04_Lists.ppt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D605-1041-42F8-ACA8-EC9CF254CA4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cture 4: Linked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299-D361-4CFE-8137-7441DF48F40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rations on an IntNo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63240" y="261612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the data at this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77200" y="4952880"/>
            <a:ext cx="67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the reference to the next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this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447920" y="1981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371600" y="190512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295280" y="19810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698120" y="1980360"/>
            <a:ext cx="5287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int setData(int newda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600920" y="4114080"/>
            <a:ext cx="622944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void setLink(IntNode newlin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8A8-4041-47A6-80ED-11284506903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3: Appl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specification, write small applications to illustrate the use of the data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the specifica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ior to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931C-D101-4D02-819C-15A4F7F57E0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ome Basic List Opera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Slides from Main</a:t>
            </a:r>
            <a:r>
              <a:rPr b="0" lang="ja-JP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s l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06F-08C1-48DE-BD0D-5640AE4FD1C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ublic vs. Private Data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write simple, shor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thods?  Why not just allow access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data allows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representation invaria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be pre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interface to be implementation indepen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447280" y="2742480"/>
            <a:ext cx="3595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data  node.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6C41-DD7C-4C02-BB15-0B8F639668D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arbage Collec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ppens to a node after it is removed from a li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annot be accessed, it is recycled by the 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Java runtim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rbage collection is a huge programming conven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s code more rob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may pay in runtime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CB0B-C2D4-4D9B-AA3B-99EDBE119DB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uting a List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Leng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s the number of nodes in a list with given 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work even for the empty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wor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single method, for all instances of th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237680" y="2435760"/>
            <a:ext cx="60084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tatic int listLength(IntNode he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118A-9B8A-4578-9839-8EDD7623DEF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uting a List</a:t>
            </a:r>
            <a:r>
              <a:rPr b="0" lang="ja-JP" sz="4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 Lengt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36640" y="1979640"/>
            <a:ext cx="7332840" cy="3448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static int listLength(IntNode he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Node curr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le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(current=head; current != null; current = current.link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n++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l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A8E6-7CD3-40B9-A875-6C639121D48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istLength(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eed a pre-condi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recursi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istLength(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method that reverses a list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method should re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list contains a cycle, and should re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therwise.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81800" y="3808800"/>
            <a:ext cx="68040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static bool containsCycle(IntNode he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C24A-45CD-48A5-8E44-92172D99194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inked L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ked lists are one of the most basic and widely used data 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emely useful in many applica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ar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Games and search algorit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4B5-CBBC-464C-AE90-9B7A9CAF5B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inked List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used as building blocks for implementing other AD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t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Tables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9A95-FD41-42CF-A43D-F223F420E76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ve Steps per Datatyp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 it Abstrac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, Design, Imp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ze the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A088-45E7-4ABB-BD25-77F0671F0E2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1: Understand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sp the datatype at the level of concepts and pi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Group 41"/>
          <p:cNvGrpSpPr/>
          <p:nvPr/>
        </p:nvGrpSpPr>
        <p:grpSpPr>
          <a:xfrm>
            <a:off x="1523880" y="3276720"/>
            <a:ext cx="1143000" cy="761760"/>
            <a:chOff x="1523880" y="3276720"/>
            <a:chExt cx="1143000" cy="761760"/>
          </a:xfrm>
        </p:grpSpPr>
        <p:sp>
          <p:nvSpPr>
            <p:cNvPr id="72" name="Rectangle 5"/>
            <p:cNvSpPr/>
            <p:nvPr/>
          </p:nvSpPr>
          <p:spPr>
            <a:xfrm>
              <a:off x="1523880" y="327672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10"/>
            <p:cNvSpPr/>
            <p:nvPr/>
          </p:nvSpPr>
          <p:spPr>
            <a:xfrm>
              <a:off x="1523880" y="327672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5486400" y="3505320"/>
            <a:ext cx="1143000" cy="761760"/>
            <a:chOff x="5486400" y="3505320"/>
            <a:chExt cx="1143000" cy="761760"/>
          </a:xfrm>
        </p:grpSpPr>
        <p:sp>
          <p:nvSpPr>
            <p:cNvPr id="75" name="Rectangle 16"/>
            <p:cNvSpPr/>
            <p:nvPr/>
          </p:nvSpPr>
          <p:spPr>
            <a:xfrm>
              <a:off x="5486400" y="350532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5486400" y="350532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" name="Line 32"/>
          <p:cNvSpPr/>
          <p:nvPr/>
        </p:nvSpPr>
        <p:spPr>
          <a:xfrm flipV="1">
            <a:off x="4876920" y="426708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3657600" y="4800600"/>
            <a:ext cx="1143000" cy="761760"/>
            <a:chOff x="3657600" y="4800600"/>
            <a:chExt cx="1143000" cy="761760"/>
          </a:xfrm>
        </p:grpSpPr>
        <p:sp>
          <p:nvSpPr>
            <p:cNvPr id="79" name="Rectangle 13"/>
            <p:cNvSpPr/>
            <p:nvPr/>
          </p:nvSpPr>
          <p:spPr>
            <a:xfrm>
              <a:off x="3657600" y="480060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3657600" y="480060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" name="Line 36"/>
          <p:cNvSpPr/>
          <p:nvPr/>
        </p:nvSpPr>
        <p:spPr>
          <a:xfrm>
            <a:off x="2590920" y="41911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6858000" y="4952880"/>
            <a:ext cx="1143000" cy="761760"/>
            <a:chOff x="6858000" y="4952880"/>
            <a:chExt cx="1143000" cy="761760"/>
          </a:xfrm>
        </p:grpSpPr>
        <p:sp>
          <p:nvSpPr>
            <p:cNvPr id="83" name="Rectangle 19"/>
            <p:cNvSpPr/>
            <p:nvPr/>
          </p:nvSpPr>
          <p:spPr>
            <a:xfrm>
              <a:off x="6858000" y="4952880"/>
              <a:ext cx="11430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6858000" y="4952880"/>
              <a:ext cx="381240" cy="761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" name="Line 37"/>
          <p:cNvSpPr/>
          <p:nvPr/>
        </p:nvSpPr>
        <p:spPr>
          <a:xfrm>
            <a:off x="6629400" y="434340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ABEE-D06B-4074-BD80-404E8B1A390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specification for a Java class that could implement the data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dings for constructor, public methods, public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precondition / postcondition for each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of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258F-DBCC-4260-BBA5-103FE188348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219320" y="3505320"/>
            <a:ext cx="7162560" cy="22096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class Int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 data;            // data stored 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Node link;    // reference to n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676520" y="1523880"/>
            <a:ext cx="58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l describe the specification and implementation of a list of integ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C4F-1C2D-45EB-8ACA-75067A15AA5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ructor for Int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049"/>
          <p:cNvSpPr/>
          <p:nvPr/>
        </p:nvSpPr>
        <p:spPr>
          <a:xfrm>
            <a:off x="1440360" y="2970720"/>
            <a:ext cx="6031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IntNode(int initialData, IntNode initialLin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050"/>
          <p:cNvSpPr/>
          <p:nvPr/>
        </p:nvSpPr>
        <p:spPr>
          <a:xfrm>
            <a:off x="1322280" y="3657240"/>
            <a:ext cx="61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ize a node with a spec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data and link to the next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4C8-1975-4CEA-B46C-3E39B22DDC2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4: Linked Li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rations on an IntNo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70800" y="261612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s the data from this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198440" y="4952880"/>
            <a:ext cx="68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ference to the node after this node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the null refer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447920" y="1981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371600" y="190512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295280" y="19810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682280" y="1986840"/>
            <a:ext cx="33598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int getData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1688400" y="4196520"/>
            <a:ext cx="41904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IntNode getLink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hael McCarthy</cp:lastModifiedBy>
  <cp:lastPrinted>1999-05-23T20:28:14Z</cp:lastPrinted>
  <dcterms:modified xsi:type="dcterms:W3CDTF">2014-01-22T14:07:13Z</dcterms:modified>
  <cp:revision>18</cp:revision>
  <dc:subject/>
  <dc:title>No Slide Title</dc:title>
</cp:coreProperties>
</file>